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F54-7D60-4181-A34E-E23B886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7DB-CFBB-4FE8-9012-089F53B9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08D-9B1A-479E-A271-965E484E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1FB-276C-4E24-A89F-48E4B791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735C-5243-40BB-8222-EB17A61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B4B-4154-44B0-BF7F-7982843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63C1-C7EF-443E-A815-D1A0DCBE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E46D-0A37-4E26-9903-55E3A61E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99C-CE7A-404D-A254-BF366C42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772-ACA3-473D-B456-DA574B8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304-EFEE-468F-9CF0-065B5E4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1F6-96EF-4BBC-8C0E-5ABE9F3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782-B89F-4CAE-97C6-997A635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E323-842D-4B82-820F-1B52AEC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AA16-D5F7-451C-8E23-C0BDF2E9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ABE-0102-4CEC-8161-F94BA470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4F4-6AFF-47F6-AE4C-A7987FFD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5A5-A39D-48D1-8AF4-A3F89E3E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1BD-2715-4342-BF3B-E5129F3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90E-8261-4A2C-8D2C-B5BF0FF8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95C-27F4-470B-9EAE-E9B6A13C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FD2-04A6-458E-85E7-05B7950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585-BE2E-48A0-8484-E1F95AC4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ED3-E82B-4FE4-ADCF-C772923F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9B6-02E8-47C3-9396-7178365CEE1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492-7723-48C4-9E77-B8F28E55FA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81E-405E-4FD6-B9B1-E08F7D2C531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7391-F0E3-412A-8EC9-D976C1B8CE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6/ChipotleDistributionDecember2010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ipotle.com/en-US/menu/ingredients/ingredients.aspx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66880"/>
            <a:ext cx="640080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90" name="Picture 2" descr="http://www.londonburrito.com/resources/chipotle-570x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676520" y="3352680"/>
            <a:ext cx="601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Stephen Raine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hiller"/>
              </a:rPr>
              <a:t>Kevin Weiga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 Proportion T-Interv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66520" y="1447560"/>
            <a:ext cx="40388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= 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µ = 7.964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dence = 9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362320" y="3276720"/>
            <a:ext cx="396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SRS                             1).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Population ≥ 10n     2). Yes there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ore th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690 chipotl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ustom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Normal population  3). Yes n is &gt; 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r n ≥ 30                           (6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6324480" y="4038480"/>
            <a:ext cx="838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- Student t distribution- 1 Sample t Interva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 ± t*(s/    n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.96 ± t*(1.64/ 8.31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 7.57104, 8.35794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 are 95% confident that the true mean of total prices at Chipotle is between 7.57 and 8.36 dollars per meal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traight Connector 4"/>
          <p:cNvSpPr/>
          <p:nvPr/>
        </p:nvSpPr>
        <p:spPr>
          <a:xfrm>
            <a:off x="990720" y="1752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http://roofframer.com/images/square-root-symbol.jpg"/>
          <p:cNvPicPr/>
          <p:nvPr/>
        </p:nvPicPr>
        <p:blipFill>
          <a:blip r:embed="rId1"/>
          <a:stretch/>
        </p:blipFill>
        <p:spPr>
          <a:xfrm>
            <a:off x="2590920" y="1676520"/>
            <a:ext cx="3045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7524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al vs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al Ty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41648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2895480" y="228600"/>
          <a:ext cx="6096240" cy="2600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7"/>
          <p:cNvSpPr/>
          <p:nvPr/>
        </p:nvSpPr>
        <p:spPr>
          <a:xfrm>
            <a:off x="152280" y="327672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gain, the burrito is the most popular at dinner and lun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ame amount of tacos were ordered at lunch and di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 dinner there was no 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same amount of bowls, salads, and tacos were ordered at dinner (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i-Square Test of independence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Meal vs. Meal Typ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049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bserve and Expected Data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pected in Pare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2743200"/>
          <a:ext cx="3429000" cy="2228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4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5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 (19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(0.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(4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5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6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5" name="TextBox 6"/>
          <p:cNvSpPr/>
          <p:nvPr/>
        </p:nvSpPr>
        <p:spPr>
          <a:xfrm>
            <a:off x="3733920" y="16002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: There is no association between meal and meal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: There is an association between meal and meal typ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 Categorical Data?             1).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 2 Ind SRS?                          2). Yes,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 All expected cell counts    3). No, 4 of 10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eater than 5?                        not but we wi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inue any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5562720" y="4971960"/>
            <a:ext cx="8380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 - </a:t>
            </a: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 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² Test of Independence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149480" y="1905120"/>
                <a:ext cx="6976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1847880" y="3124080"/>
                <a:ext cx="5524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Box 8"/>
          <p:cNvSpPr/>
          <p:nvPr/>
        </p:nvSpPr>
        <p:spPr>
          <a:xfrm>
            <a:off x="990720" y="411480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fail to reject that there is no association between meal and meal type because the p-value of 0.35 is greater than </a:t>
            </a:r>
            <a:r>
              <a:rPr b="1" lang="el-GR" sz="18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=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We have suffiencient evidence that there is no association between meal and meal typ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sonal Opi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ipotle is more of a male restaur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rritos #1 M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overpric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hen: Bur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rnit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bea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Gua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ee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r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in: Bur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ick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ua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s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tter than Moe’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Moes"/>
          <p:cNvPicPr/>
          <p:nvPr/>
        </p:nvPicPr>
        <p:blipFill>
          <a:blip r:embed="rId1"/>
          <a:stretch/>
        </p:blipFill>
        <p:spPr>
          <a:xfrm>
            <a:off x="4497480" y="2357280"/>
            <a:ext cx="3503520" cy="3391200"/>
          </a:xfrm>
          <a:prstGeom prst="rect">
            <a:avLst/>
          </a:prstGeom>
          <a:ln w="0">
            <a:noFill/>
          </a:ln>
        </p:spPr>
      </p:pic>
      <p:sp>
        <p:nvSpPr>
          <p:cNvPr id="154" name="Line 7"/>
          <p:cNvSpPr/>
          <p:nvPr/>
        </p:nvSpPr>
        <p:spPr>
          <a:xfrm flipH="1">
            <a:off x="3809880" y="1523880"/>
            <a:ext cx="5181840" cy="4876920"/>
          </a:xfrm>
          <a:prstGeom prst="line">
            <a:avLst/>
          </a:prstGeom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3504960" y="2133360"/>
            <a:ext cx="563868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as and Err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ly misheard an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up prices w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of people with similar likes or trying same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6a00d83451e1dc69e2011570a96fcb970b-800wi"/>
          <p:cNvPicPr/>
          <p:nvPr/>
        </p:nvPicPr>
        <p:blipFill>
          <a:blip r:embed="rId1"/>
          <a:stretch/>
        </p:blipFill>
        <p:spPr>
          <a:xfrm>
            <a:off x="5025960" y="1600200"/>
            <a:ext cx="3282840" cy="2170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rror_button"/>
          <p:cNvPicPr/>
          <p:nvPr/>
        </p:nvPicPr>
        <p:blipFill>
          <a:blip r:embed="rId2"/>
          <a:stretch/>
        </p:blipFill>
        <p:spPr>
          <a:xfrm>
            <a:off x="4419720" y="441972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association between meal and meal type, we cannot say that Chipotle is actually a lunch burrito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ot overpriced because average cost is only $7.95 per meal, which is less than $10 and just $1.60 more than the basic meal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annot be said that Chipotle is only a male place, there was a fairly even distribution between males and fem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-cvr-080908-aaron-rodgers-9p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275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6"/>
          <p:cNvSpPr/>
          <p:nvPr/>
        </p:nvSpPr>
        <p:spPr>
          <a:xfrm>
            <a:off x="4267080" y="762120"/>
            <a:ext cx="4876920" cy="23619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ever I come to Philadelphia, I always eat a nice Chipotle burrito, and the Eag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out Chipotle Mexian Gril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ed in 1993 by Steve 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ver, Colo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oked, dried jalapeño pep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n for “large burri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c Ingredi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Donald’s from ’98 to ’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 income $126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vin and Stephen “regular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File:ChipotleDistributionDecember201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5120" y="1600200"/>
            <a:ext cx="3043080" cy="217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chipotlemenu.net/wp-content/uploads/2010/04/Chipotle-Logo11.jpg"/>
          <p:cNvPicPr/>
          <p:nvPr/>
        </p:nvPicPr>
        <p:blipFill>
          <a:blip r:embed="rId3"/>
          <a:stretch/>
        </p:blipFill>
        <p:spPr>
          <a:xfrm>
            <a:off x="5573880" y="3924360"/>
            <a:ext cx="2185920" cy="2171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www.thefoodsection.com/photos/uncategorized/2009/02/17/chipotle.jpg"/>
          <p:cNvPicPr/>
          <p:nvPr/>
        </p:nvPicPr>
        <p:blipFill>
          <a:blip r:embed="rId4"/>
          <a:srcRect l="0" t="44296" r="0" b="39107"/>
          <a:stretch/>
        </p:blipFill>
        <p:spPr>
          <a:xfrm>
            <a:off x="3048120" y="6135840"/>
            <a:ext cx="51814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e want to Fi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chipotle male dominate, over priced, and a burrito only lunch option? (That’s the stereotype were trying to prove wro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http://www.chipotle.com/en-US/assets/images/menu/menu_burrito_bowl.png"/>
          <p:cNvPicPr/>
          <p:nvPr/>
        </p:nvPicPr>
        <p:blipFill>
          <a:blip r:embed="rId1"/>
          <a:stretch/>
        </p:blipFill>
        <p:spPr>
          <a:xfrm>
            <a:off x="2438280" y="4381560"/>
            <a:ext cx="3322800" cy="247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chipotle.com/en-US/assets/images/menu/menu_crispy_tacos.png"/>
          <p:cNvPicPr/>
          <p:nvPr/>
        </p:nvPicPr>
        <p:blipFill>
          <a:blip r:embed="rId2"/>
          <a:stretch/>
        </p:blipFill>
        <p:spPr>
          <a:xfrm>
            <a:off x="0" y="3886200"/>
            <a:ext cx="304812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chipotle.com/en-US/assets/images/menu/menu_salad.png"/>
          <p:cNvPicPr/>
          <p:nvPr/>
        </p:nvPicPr>
        <p:blipFill>
          <a:blip r:embed="rId3"/>
          <a:stretch/>
        </p:blipFill>
        <p:spPr>
          <a:xfrm>
            <a:off x="5257800" y="2971800"/>
            <a:ext cx="284796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chipotle.com/en-US/assets/images/menu/menu_chips_guac.png"/>
          <p:cNvPicPr/>
          <p:nvPr/>
        </p:nvPicPr>
        <p:blipFill>
          <a:blip r:embed="rId4"/>
          <a:stretch/>
        </p:blipFill>
        <p:spPr>
          <a:xfrm>
            <a:off x="5943600" y="4952880"/>
            <a:ext cx="3200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e Collected D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nt to three different Chipotle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ley Square, Willow Grove, North W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d days/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ed for permission- listened in on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ed into ch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ed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http://www.underconsideration.com/brandnew/archives/chipotle_logo_original.gif"/>
          <p:cNvPicPr/>
          <p:nvPr/>
        </p:nvPicPr>
        <p:blipFill>
          <a:blip r:embed="rId1"/>
          <a:stretch/>
        </p:blipFill>
        <p:spPr>
          <a:xfrm>
            <a:off x="5562720" y="1219320"/>
            <a:ext cx="3359160" cy="217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thisisthedream.com/wp-content/uploads/2010/09/Chipotle-Burrito.jpg"/>
          <p:cNvPicPr/>
          <p:nvPr/>
        </p:nvPicPr>
        <p:blipFill>
          <a:blip r:embed="rId2"/>
          <a:stretch/>
        </p:blipFill>
        <p:spPr>
          <a:xfrm>
            <a:off x="6227640" y="3505320"/>
            <a:ext cx="2916360" cy="2171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youritlist.com/wp-content/uploads/2009/10/chipotle.bmp"/>
          <p:cNvPicPr/>
          <p:nvPr/>
        </p:nvPicPr>
        <p:blipFill>
          <a:blip r:embed="rId3"/>
          <a:stretch/>
        </p:blipFill>
        <p:spPr>
          <a:xfrm>
            <a:off x="4191120" y="5105520"/>
            <a:ext cx="18288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ribution of Mea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cken (46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ak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bacoa (12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nitas (18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(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vin- Chic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hen- Carni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hipotle.com/en-US/menu/ingredients/ingredients.asp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Chart 2" descr=""/>
          <p:cNvPicPr/>
          <p:nvPr/>
        </p:nvPicPr>
        <p:blipFill>
          <a:blip r:embed="rId2"/>
          <a:stretch/>
        </p:blipFill>
        <p:spPr>
          <a:xfrm>
            <a:off x="4413240" y="1974960"/>
            <a:ext cx="40482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0" y="20570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ender Vs. Meal Exploratory Data Analy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0" y="2257560"/>
            <a:ext cx="5319720" cy="46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04920" y="152280"/>
          <a:ext cx="5410080" cy="2011320"/>
        </p:xfrm>
        <a:graphic>
          <a:graphicData uri="http://schemas.openxmlformats.org/drawingml/2006/table">
            <a:tbl>
              <a:tblPr/>
              <a:tblGrid>
                <a:gridCol w="771480"/>
                <a:gridCol w="774720"/>
                <a:gridCol w="771480"/>
                <a:gridCol w="774720"/>
                <a:gridCol w="771480"/>
                <a:gridCol w="774720"/>
                <a:gridCol w="771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6"/>
          <p:cNvSpPr/>
          <p:nvPr/>
        </p:nvSpPr>
        <p:spPr>
          <a:xfrm>
            <a:off x="5715000" y="365760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le and Female most common order is Burrito  at 35/6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Females ordered 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average of female burritos is 48.28% and male is 52.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i-Square Test of Homogenity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Gender vs. Meal Typ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733920" y="16002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: The distribution of Gender and Meal Type is distributed uniform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: The distribution of gender and Meal type is not distributed uniforml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).  Categorical Data?             1). 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).  2 Ind SRS?                          2). Yes, S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). All expected cell counts    3). No, 4 of 10 a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eater than 5?                        not but we wi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inue any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2743200"/>
          <a:ext cx="3429000" cy="2228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4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5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r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14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(20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 (0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1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 (4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(5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7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6"/>
          <p:cNvSpPr/>
          <p:nvPr/>
        </p:nvSpPr>
        <p:spPr>
          <a:xfrm>
            <a:off x="3049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bserve and Expected Data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pected in Pare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9" descr="http://upload.wikimedia.org/wikipedia/commons/thumb/e/eb/Blue_check.svg/600px-Blue_check.svg.png"/>
          <p:cNvPicPr/>
          <p:nvPr/>
        </p:nvPicPr>
        <p:blipFill>
          <a:blip r:embed="rId1"/>
          <a:stretch/>
        </p:blipFill>
        <p:spPr>
          <a:xfrm>
            <a:off x="5638680" y="4971960"/>
            <a:ext cx="838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360" y="3837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ditions Met - </a:t>
            </a: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 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² Test of Homogeneity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1090440" y="1905120"/>
                <a:ext cx="70963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746360" y="3124080"/>
                <a:ext cx="57290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8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609120" y="393444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 fail to reject that the distribution of gender and meal type is distribu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uniformly because the p-value of 0.48 is greater than </a:t>
            </a:r>
            <a:r>
              <a:rPr b="1" lang="el-GR" sz="20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= 0.0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1120" y="4650480"/>
            <a:ext cx="785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We have sufficient evidence that the true distribution of gender and me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ype is distributed uniform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tal Meal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7991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410080" y="1752480"/>
          <a:ext cx="3022560" cy="3240360"/>
        </p:xfrm>
        <a:graphic>
          <a:graphicData uri="http://schemas.openxmlformats.org/drawingml/2006/table">
            <a:tbl>
              <a:tblPr/>
              <a:tblGrid>
                <a:gridCol w="1498680"/>
                <a:gridCol w="152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18720">
                      <a:solidFill>
                        <a:srgbClr val="72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9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1872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ndard dev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5"/>
          <p:cNvSpPr/>
          <p:nvPr/>
        </p:nvSpPr>
        <p:spPr>
          <a:xfrm>
            <a:off x="609480" y="5105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histogram is unimodal, and roughly symmetric. There is an outlier at $2. 95 and $4.50  (LF=7.5-1.5(8.9-7.5) because it is lower than $5.40, the lower fence. There is an outlier at  $12.95 and $11.60 (UF= 8.9+1.5(8.9-7.5) because they are greater than $11, the upper f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62720" y="1371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 # Summ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39:10Z</dcterms:created>
  <dc:creator>Rainey.S406</dc:creator>
  <dc:description/>
  <dc:language>en-US</dc:language>
  <cp:lastModifiedBy>Steve Rainey</cp:lastModifiedBy>
  <dcterms:modified xsi:type="dcterms:W3CDTF">2011-01-10T03:05:26Z</dcterms:modified>
  <cp:revision>24</cp:revision>
  <dc:subject/>
  <dc:title>Slide 1</dc:title>
</cp:coreProperties>
</file>